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CEF6-0E2B-4B04-8F67-2B1EDAFC5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EE94-CDCA-4BC4-9F09-279EC2C4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80BC65-2309-40D6-A540-5A3BE27E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BFB8F2-B3C8-4695-ADAD-71CDF072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E73143-68B4-41A5-97F8-A681C99A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289F23-F45D-4BA5-B160-6FBD992B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62556-E7AB-4813-903C-D4590500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112D55-5A1D-43AD-8ABD-83D2EB24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AABB57-56A0-4D6A-AD31-77B5E225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DC108F-86D5-4325-BDCD-A52C19116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4C2F41-7F52-458E-942F-121C3458C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432528-30AA-4ED7-8675-C83B8B01A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973F-A52A-4448-A850-E422ABD3E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0EA26A-A29A-492A-895C-D8DF1EF2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934782D-C9BD-4AD3-A3E6-3A2250E7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0CCD1F-8C18-42F2-A5F9-595D2F4E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E3C132-2E61-4F49-BDE3-D809E171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06F382-4083-4EB1-9172-9E385B98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C7E69BE-213D-4D59-81D1-4A2F86A7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B1F3FD-E764-4C4E-9BF4-7B76AD71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5643A9-C163-44D0-B1E2-E076FF00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97AA96-CBEE-49C3-B40A-11A6A716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4CF0EE-8639-4295-AFEF-4FA677AA9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08A2-0FDB-48E1-BC22-CC615CE08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B772D1-164C-4B37-BCB1-FB64C00FF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51F153-E696-4A73-AC4B-0EE21DBBE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E7024-33B8-41C4-BDC3-BA058672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BAC51-5046-4FEE-8604-1BBD40D1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7DCFA-C9E3-4A4F-9241-18566A42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BE9700-6B4B-4C2B-8FB3-55958FD2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0434B6-947B-499B-B6D4-C05A89D9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3866F-9712-4C4F-8576-6A21CD0C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FB311-5D01-4F44-A928-451E70ED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62F241-ACA2-42A9-8926-1C931F11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39FB-734C-418F-ACD5-DC4BB651D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A591DA-64B1-44D6-AF98-2392AB98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CF228-0942-46BF-AB1B-15A066DB4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E6317-10E1-436D-A04D-D7634DFAE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C24B44-5B20-45E6-BFA6-B6D290BAA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1682D3-0261-4BF6-B84D-C461F0BF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FC7BE7-8D83-4350-81E1-0E58462F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89286E-67F6-41A1-BE10-03CD9150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A0DDC8-D77B-4328-BE29-6F63D7B9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31A9ED-D24D-4710-96EE-82687909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A6FE13-023C-446B-AF2A-3CF4E754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2365-EBC7-4A6F-A2AA-5598336D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E91668-E7AF-4E04-AD4A-B4857DA4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A03DA1-5394-41BD-9202-D7503257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9A2DDC-21F6-4540-AA79-E7CBBBEA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25E1C9-0FDD-41A4-9EFB-6B7C3F871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56DC9D-0476-4553-8078-995357076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4976-3339-4085-AAEE-3F56CF8D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AED8-1502-43F7-AE88-07F3B7C0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49E09-5903-4A6E-9D3F-335ECEC2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AAB3-AD96-4881-BEFC-146060E6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645EA-BEB8-4233-AE29-6F3DDCFA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627E-6136-4FC8-8CA4-F44E1414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4412-8DCE-416B-B31E-558D6038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4330-B2D8-48F5-AEF9-D2F6905B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0B91-CD8E-4066-9D92-DE555383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C2EC-F340-4793-9391-9A8E77A67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44C0-ED7B-4FED-9212-5B1276193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8428D-CB53-4C1B-B5B7-DFECB4914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E09E1-6902-4FAA-99A6-28148D78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2F4E8-2870-46FF-876E-3AEF9D57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F9DAA-58C1-45AD-B5DF-4F16EAF8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2D9A6-EF47-4088-B7D7-6C30D66C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C8A1-FF91-4C11-BF05-135094DA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4CFE4-DB30-46BD-8FE4-D60FA2E9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1CEB6-C6FA-4BB7-B5F6-D250BC38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B8601-3E42-459E-B2F8-479FF230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54092-1F5C-4166-869A-3FF8868E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9878D-3C64-45CD-A018-30D7E1A1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3F8B6-0945-4803-BB18-3B05CCF44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85258-D0E4-4F14-9DF6-CB68A38D1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CD026-1F8D-4550-8D4A-792921EF3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19D3D-EEC5-4F15-8AD9-270E46E5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9423D-2A3B-4812-B13B-0866A717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0AE4-B259-4F8F-99FF-04007231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899F4-C7A3-4E3F-AD08-0B1AA65E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10ADF-2B69-48AB-9068-400C38B3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CF9F6-05DF-40EA-A123-2CE2E2E8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81A4B-7534-4F06-96C0-C0C6B6C8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F1CB8-3C1A-418C-8AF1-37F56D51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977A6-AFD8-4619-BEC6-189A8921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98C76-876B-46CF-8AA4-D977ED0F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B52CD-D70A-4188-9FD9-A932FA2A0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25E06-38AB-4860-BA6C-B5EE5E025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51D5DB-DE33-456F-902D-EA6C31EA2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ADCE-6BA5-4511-A463-D6FEBC08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759657-F6BA-4222-93C7-10102863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26355A-F512-43C3-B6C8-E1AEB08A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9318D6-419F-4FCC-AFE2-4AD230AB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DE02F9-6707-46EC-9972-943A8CBD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4AA3B6-D4E3-4398-A7C0-5956BB9D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B1E9EC-F78A-453A-9BA2-F8889E05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1FAAD4-B36F-44BB-9572-461CDAB1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F8F4D7-38B3-4A50-A2BE-F7A9553F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4834AC-491E-4042-A4D8-32512FFA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97EDDC-1258-4B44-99A6-210A98045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7395-449C-4333-8289-DDCCE666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C368A8-6231-4064-A684-9808EB88D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38E55-6E77-4BC0-969F-E8A1D627A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7E2E8-BBBA-4A43-9033-ACA55622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96AD4-794C-4894-B0CF-CFAB9BE4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94871-2F7E-4095-9306-798083DF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56223-D674-4B1B-B05C-2B5B0FCC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85E5B-5F77-4894-87F8-D3CBAFAE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99DCE-55D3-4BB3-B3A2-70B5C778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FF3BC-D79B-432D-A138-4ACA76AE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91A2C-58DC-4D11-BFE9-C4729EBF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A18D-05D0-4EA8-95E7-EBBE79CD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91E92-A9CA-4007-8DE6-472E59AB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177B7-A783-480E-845D-9FC0D6D89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2FC70-46DB-4104-A4A2-14ACFF323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F8225-9D20-4A48-8116-4C2D43DDE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3E074-FB9C-4572-A295-C4406ADA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69753-4171-434E-BCE7-A56AE08B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B3DEE-8055-4C2E-B2B5-9D46F058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00C4A-52FD-412F-8D7F-D8310FC9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2DD03-99F9-4630-B0B5-C0769139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CE8D9-A5D3-449E-AC2E-1EAEC058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5A1D-723F-4C86-A073-12005114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A84F1-DDC3-41E7-9B9C-3BCBF21F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7745C-9909-4B72-A317-2D3078CC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DD3A4-36A2-4E01-86B1-4A632AF2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E5E59-E043-491B-B62D-7FC92860F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2D2D2-BD4C-4BEE-88DB-0ABF56A6D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D0430-A813-48F5-A90A-37757342E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D53E6-8745-4577-89EF-0522F5E3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9B7DD-E008-4997-AE54-15E50E1D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B1299-4126-4665-A604-203E368A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38A03-6A7A-40C1-B91F-FFE54C76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AF8F-244B-4636-A267-DADE5876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3482B-44E8-4628-A10B-2E2043AE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FE728-F0EF-4FE5-9926-1EBD97E9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1046E-0A8E-4DA0-9B67-27CA3A29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42BF0-2834-4D65-8196-97B1B03A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FBBB3-DCB7-4150-BAE8-F6BBDB24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20944-8C41-4125-94DB-7FC1781B9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6D81C-FF63-435F-A1BF-5E105ED37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E08301-6673-4600-B379-8847A7260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640D6E-4DDF-4DD9-9E30-92A614AE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DBFDA9-5CE8-4024-BE4F-5960E41C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BEBE-119B-4827-B723-705F249F8FE6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7317-6498-45C3-95AA-0CAD2D32969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1F11-102C-4CAB-9B61-1E380E533DD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E2E8-FD46-41D7-80C7-C547D9C2C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C172-62F2-4D64-968E-947DFF15ABD0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8C00-E63D-4C68-864C-39AA7D844A6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E9FB-765D-4AC5-AC9E-43BD90475C64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572F-8FBF-448A-BB12-4EBA7DDEF6F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0E33-5005-4B73-8FAF-4FAE12C0B11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E9D0-00A9-42B3-B25C-3429E55B1E8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2768-B21C-400A-AE8B-64EF2A57FB8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31B0-7CB9-4670-9143-C446CD247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16A8-802B-49BE-BED2-D4A46E40E38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84F9-4598-4E2D-9616-BEBEBE300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329E-E953-422A-B2BB-A6D553FD3B6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3309-5F1D-4924-AC0C-7411CEB723A4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495C-EAEF-4A6A-AA95-345B8CD03FDE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8DEC-60EF-4FD9-9D99-623FAB2FB46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3400-4D7D-487A-B9C0-B9FD5BA72A2F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3029-37C2-4DC0-A918-5DA9F939D2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4667-7208-4341-8E0C-3EF1B0AFA8B7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50B1-1207-4FD2-AE68-D5423250727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688C-F02C-4B7E-9FD9-25AF82DCAED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17BA-663C-4B16-B8C7-BDD14BA7E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1164-30D9-473B-BA95-A7EE07FAF4A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74F3FA-3CE8-48AC-8D13-658A4977A912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68C1C-CE24-4D4B-A353-28D3987494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A8A0DBA1-F94E-4B91-AEEC-BB0DED6258DB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F6C42-85AF-4A0C-BE19-B4440B2D511D}" type="slidenum">
              <a:t>3</a:t>
            </a:fld>
          </a:p>
        </p:txBody>
      </p:sp>
    </p:spTree>
  </p:cSld>
  <p:transition>
    <p:comb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9C5F31-4A1F-48AA-A7F6-C8F544A7FEF7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C8BFB547-2C32-4BD7-B0A9-EFD818731A0D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EB4EB5-EE94-4F7F-8944-D18237AF215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3F71EDB6-336F-47ED-82EF-01EA7BA14D14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000"/>
                            </p:stCondLst>
                            <p:childTnLst>
                              <p:par>
                                <p:cTn id="2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7000"/>
                            </p:stCondLst>
                            <p:childTnLst>
                              <p:par>
                                <p:cTn id="3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8000"/>
                            </p:stCondLst>
                            <p:childTnLst>
                              <p:par>
                                <p:cTn id="3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000"/>
                            </p:stCondLst>
                            <p:childTnLst>
                              <p:par>
                                <p:cTn id="3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519236-EF4A-4B7F-ABC7-AC516DF6A6E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625C45AF-7830-4F3D-91EB-2EFC07C59CBB}" type="datetime1">
              <a:rPr lang="en-US"/>
              <a:t>07/29/26</a:t>
            </a:fld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