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DEC00-18DF-44D1-ADEB-22837E839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6F4EC-FAB6-48E9-AB61-EC7839243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C9967-1B51-4814-B85E-74E75F59D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25D63-FAE1-4036-9F0D-3CAA782BC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89489-A2F4-48EC-B8D6-75FAB2BA4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58271-E28B-46C4-A8A9-A9657898D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CE1FC-2F0A-477A-9585-0FC5C25B8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AB2B2-F3AE-4661-9094-C5EE8BE22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5D11D-6506-4BAF-8859-B216E535E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F323C-99DD-4C3C-858B-EDE34589C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D9123-94C4-4A1A-A4D4-47AC3AD70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99AA6-4073-4687-A4E0-B0BE792CD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E2B55-7A14-4BED-A411-01153D6CADA3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048440" y="121428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8963" y="-32344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148520" y="15210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589640" y="174456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89213" y="4000"/>
                </a:lnTo>
                <a:lnTo>
                  <a:pt x="89213" y="-16594"/>
                </a:lnTo>
                <a:lnTo>
                  <a:pt x="-68438" y="-37294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410160" y="105732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250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068960" y="1809720"/>
            <a:ext cx="9144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4350" y="-50850"/>
                </a:moveTo>
                <a:lnTo>
                  <a:pt x="-1800" y="40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19840" y="11574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597640" y="196524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43425" y="4000"/>
                </a:lnTo>
                <a:lnTo>
                  <a:pt x="43425" y="-25313"/>
                </a:lnTo>
                <a:lnTo>
                  <a:pt x="-109950" y="-5473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570720" y="620640"/>
            <a:ext cx="914400" cy="914400"/>
          </a:xfrm>
          <a:prstGeom prst="borderCallout3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062840" y="231156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43888" y="-49725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380280" y="247032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ounded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618160" y="203688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51150" y="4000"/>
                </a:lnTo>
                <a:lnTo>
                  <a:pt x="51150" y="-29925"/>
                </a:lnTo>
                <a:lnTo>
                  <a:pt x="-125475" y="-63956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Oval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Cloud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380360" y="912960"/>
            <a:ext cx="914400" cy="914400"/>
          </a:xfrm>
          <a:prstGeom prst="borderCallout1">
            <a:avLst>
              <a:gd name="adj1" fmla="val -161588"/>
              <a:gd name="adj2" fmla="val -1800"/>
              <a:gd name="adj3" fmla="val 18900"/>
              <a:gd name="adj4" fmla="val -18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265880" y="208764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-169791"/>
              <a:gd name="adj4" fmla="val -6331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151680" y="1077840"/>
            <a:ext cx="91440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313541"/>
              <a:gd name="adj5" fmla="val -129689"/>
              <a:gd name="adj6" fmla="val -6303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805280" y="158112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64500" y="4000"/>
                </a:lnTo>
                <a:lnTo>
                  <a:pt x="64500" y="-11138"/>
                </a:lnTo>
                <a:lnTo>
                  <a:pt x="-71850" y="-2638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140440" y="40968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48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34:46Z</dcterms:created>
  <dc:creator>tb121644</dc:creator>
  <dc:description/>
  <dc:language>en-US</dc:language>
  <cp:lastModifiedBy>tb121644</cp:lastModifiedBy>
  <dcterms:modified xsi:type="dcterms:W3CDTF">2005-05-25T12:19:33Z</dcterms:modified>
  <cp:revision>2</cp:revision>
  <dc:subject/>
  <dc:title>Slide 1</dc:title>
</cp:coreProperties>
</file>